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EBA3548-87F0-41AB-ACED-3AE1A3D38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242ACC9-D855-4E7E-B835-A5C48C913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19080" y="4578480"/>
            <a:ext cx="505008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ldImg"/>
          </p:nvPr>
        </p:nvSpPr>
        <p:spPr>
          <a:xfrm>
            <a:off x="1197000" y="839880"/>
            <a:ext cx="44956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180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23320" y="6134040"/>
            <a:ext cx="96840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496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8274-1244-4EE7-A341-FD225EDBD55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532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Basic Princip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2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149" name="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2"/>
              <a:endCxn id="151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157" name="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" name=""/>
            <p:cNvCxnSpPr>
              <a:stCxn id="149" idx="3"/>
              <a:endCxn id="157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165" name="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6" idx="3"/>
              <a:endCxn id="169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70" name="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169" name="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175" name="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8" name=""/>
            <p:cNvCxnSpPr>
              <a:stCxn id="172" idx="3"/>
              <a:endCxn id="175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3"/>
              <a:endCxn id="182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83" name="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182" name="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" name=""/>
            <p:cNvCxnSpPr>
              <a:stCxn id="186" idx="2"/>
              <a:endCxn id="172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86" idx="2"/>
              <a:endCxn id="166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193" name="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4000" y="32018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3" idx="2"/>
              <a:endCxn id="194" idx="0"/>
            </p:cNvCxnSpPr>
            <p:nvPr/>
          </p:nvCxnSpPr>
          <p:spPr>
            <a:xfrm>
              <a:off x="1658880" y="2802960"/>
              <a:ext cx="216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"/>
            <p:cNvSpPr/>
            <p:nvPr/>
          </p:nvSpPr>
          <p:spPr>
            <a:xfrm>
              <a:off x="1757880" y="28270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201" name="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668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1" idx="2"/>
              <a:endCxn id="202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138744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45440" y="47160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757160" y="906480"/>
            <a:ext cx="1390680" cy="2206440"/>
            <a:chOff x="1757160" y="906480"/>
            <a:chExt cx="1390680" cy="2206440"/>
          </a:xfrm>
        </p:grpSpPr>
        <p:sp>
          <p:nvSpPr>
            <p:cNvPr id="209" name=""/>
            <p:cNvSpPr/>
            <p:nvPr/>
          </p:nvSpPr>
          <p:spPr>
            <a:xfrm>
              <a:off x="3147840" y="90648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7160" y="95868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48280" y="906480"/>
            <a:ext cx="1433880" cy="2222640"/>
            <a:chOff x="5048280" y="906480"/>
            <a:chExt cx="1433880" cy="2222640"/>
          </a:xfrm>
        </p:grpSpPr>
        <p:sp>
          <p:nvSpPr>
            <p:cNvPr id="212" name=""/>
            <p:cNvSpPr/>
            <p:nvPr/>
          </p:nvSpPr>
          <p:spPr>
            <a:xfrm>
              <a:off x="5119560" y="95904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90648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032440" y="1712880"/>
            <a:ext cx="2665800" cy="2881440"/>
            <a:chOff x="5032440" y="1712880"/>
            <a:chExt cx="2665800" cy="2881440"/>
          </a:xfrm>
        </p:grpSpPr>
        <p:sp>
          <p:nvSpPr>
            <p:cNvPr id="215" name=""/>
            <p:cNvSpPr/>
            <p:nvPr/>
          </p:nvSpPr>
          <p:spPr>
            <a:xfrm>
              <a:off x="5032440" y="31557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1520" y="419544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68200" y="361764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960" y="400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5" idx="2"/>
              <a:endCxn id="218" idx="0"/>
            </p:cNvCxnSpPr>
            <p:nvPr/>
          </p:nvCxnSpPr>
          <p:spPr>
            <a:xfrm flipH="1">
              <a:off x="6298560" y="3594960"/>
              <a:ext cx="6840" cy="397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5215320" y="171288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2960" y="2144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1520" y="241920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21" idx="4"/>
              <a:endCxn id="215" idx="0"/>
            </p:cNvCxnSpPr>
            <p:nvPr/>
          </p:nvCxnSpPr>
          <p:spPr>
            <a:xfrm>
              <a:off x="6298920" y="2311200"/>
              <a:ext cx="6840" cy="83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413280" y="1652760"/>
            <a:ext cx="3418920" cy="4150440"/>
            <a:chOff x="413280" y="1652760"/>
            <a:chExt cx="3418920" cy="4150440"/>
          </a:xfrm>
        </p:grpSpPr>
        <p:sp>
          <p:nvSpPr>
            <p:cNvPr id="225" name=""/>
            <p:cNvSpPr/>
            <p:nvPr/>
          </p:nvSpPr>
          <p:spPr>
            <a:xfrm>
              <a:off x="888840" y="509940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7" idx="2"/>
              <a:endCxn id="228" idx="0"/>
            </p:cNvCxnSpPr>
            <p:nvPr/>
          </p:nvCxnSpPr>
          <p:spPr>
            <a:xfrm>
              <a:off x="1926720" y="3565440"/>
              <a:ext cx="118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2005920" y="360216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2280" y="3948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3280" y="31258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560" y="410688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30" idx="2"/>
              <a:endCxn id="232" idx="0"/>
            </p:cNvCxnSpPr>
            <p:nvPr/>
          </p:nvCxnSpPr>
          <p:spPr>
            <a:xfrm>
              <a:off x="1928880" y="4546440"/>
              <a:ext cx="10080" cy="354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>
              <a:off x="2076480" y="456912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2280" y="491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69160" y="165276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51120" y="208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79360" y="227196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35" idx="4"/>
              <a:endCxn id="227" idx="0"/>
            </p:cNvCxnSpPr>
            <p:nvPr/>
          </p:nvCxnSpPr>
          <p:spPr>
            <a:xfrm>
              <a:off x="1926720" y="2250720"/>
              <a:ext cx="1080" cy="86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undamental Principle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840" y="1266840"/>
            <a:ext cx="857232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presents LPM/5 as both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EXPRESS schema 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EXPRESS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uses STEP ‘Generic Resources’ wherever possib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1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date, person, measures and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2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licit geometry and top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3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4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contains 3 “Views” (models) of structu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alysis, Design, Manufacturing (Physic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: Detai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480" y="1104840"/>
            <a:ext cx="576108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ivided into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65680" y="1598760"/>
            <a:ext cx="40384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246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68880" y="13064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77320" y="209556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8880" y="23288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38480" y="429084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3320" y="429084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0400" y="12445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65400" y="2705040"/>
            <a:ext cx="2151360" cy="613440"/>
            <a:chOff x="3065400" y="2705040"/>
            <a:chExt cx="2151360" cy="613440"/>
          </a:xfrm>
        </p:grpSpPr>
        <p:sp>
          <p:nvSpPr>
            <p:cNvPr id="256" name=""/>
            <p:cNvSpPr/>
            <p:nvPr/>
          </p:nvSpPr>
          <p:spPr>
            <a:xfrm>
              <a:off x="3065400" y="291960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2705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79520" y="2690640"/>
            <a:ext cx="3013920" cy="627480"/>
            <a:chOff x="5879520" y="2690640"/>
            <a:chExt cx="3013920" cy="627480"/>
          </a:xfrm>
        </p:grpSpPr>
        <p:sp>
          <p:nvSpPr>
            <p:cNvPr id="259" name=""/>
            <p:cNvSpPr/>
            <p:nvPr/>
          </p:nvSpPr>
          <p:spPr>
            <a:xfrm>
              <a:off x="5879520" y="29192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7320" y="2690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"/>
          <p:cNvCxnSpPr>
            <a:stCxn id="254" idx="2"/>
            <a:endCxn id="257" idx="0"/>
          </p:cNvCxnSpPr>
          <p:nvPr/>
        </p:nvCxnSpPr>
        <p:spPr>
          <a:xfrm rot="5400000">
            <a:off x="4720680" y="1407960"/>
            <a:ext cx="687960" cy="1850040"/>
          </a:xfrm>
          <a:prstGeom prst="bentConnector3">
            <a:avLst>
              <a:gd name="adj1" fmla="val 5104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4" idx="2"/>
            <a:endCxn id="260" idx="0"/>
          </p:cNvCxnSpPr>
          <p:nvPr/>
        </p:nvCxnSpPr>
        <p:spPr>
          <a:xfrm flipH="1" rot="16200000">
            <a:off x="6338880" y="1639440"/>
            <a:ext cx="673920" cy="1372320"/>
          </a:xfrm>
          <a:prstGeom prst="bentConnector3">
            <a:avLst>
              <a:gd name="adj1" fmla="val 5093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8120" y="29192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02320" y="42782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160" y="56689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8920" y="566892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5440" y="427824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3365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96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3112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597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6400" y="427824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55600" y="566892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6" idx="0"/>
            <a:endCxn id="270" idx="4"/>
          </p:cNvCxnSpPr>
          <p:nvPr/>
        </p:nvCxnSpPr>
        <p:spPr>
          <a:xfrm flipH="1" flipV="1">
            <a:off x="745920" y="353952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5" idx="0"/>
            <a:endCxn id="269" idx="4"/>
          </p:cNvCxnSpPr>
          <p:nvPr/>
        </p:nvCxnSpPr>
        <p:spPr>
          <a:xfrm flipH="1" flipV="1">
            <a:off x="1640880" y="353160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453852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4" idx="0"/>
            <a:endCxn id="278" idx="4"/>
          </p:cNvCxnSpPr>
          <p:nvPr/>
        </p:nvCxnSpPr>
        <p:spPr>
          <a:xfrm flipH="1" flipV="1">
            <a:off x="4614480" y="351720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32424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1" idx="0"/>
            <a:endCxn id="280" idx="4"/>
          </p:cNvCxnSpPr>
          <p:nvPr/>
        </p:nvCxnSpPr>
        <p:spPr>
          <a:xfrm flipV="1">
            <a:off x="3398400" y="353952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640728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956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76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8" idx="0"/>
            <a:endCxn id="284" idx="4"/>
          </p:cNvCxnSpPr>
          <p:nvPr/>
        </p:nvCxnSpPr>
        <p:spPr>
          <a:xfrm flipV="1">
            <a:off x="8046720" y="351720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6527880" y="335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2" idx="0"/>
            <a:endCxn id="286" idx="4"/>
          </p:cNvCxnSpPr>
          <p:nvPr/>
        </p:nvCxnSpPr>
        <p:spPr>
          <a:xfrm flipH="1" flipV="1">
            <a:off x="6603480" y="352512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222640" y="2935440"/>
            <a:ext cx="807840" cy="374400"/>
          </a:xfrm>
          <a:prstGeom prst="leftRightArrow">
            <a:avLst>
              <a:gd name="adj1" fmla="val 50000"/>
              <a:gd name="adj2" fmla="val 429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67160" y="2935440"/>
            <a:ext cx="576360" cy="374400"/>
          </a:xfrm>
          <a:prstGeom prst="leftRightArrow">
            <a:avLst>
              <a:gd name="adj1" fmla="val 50000"/>
              <a:gd name="adj2" fmla="val 306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3160" y="569124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69640" y="5705640"/>
            <a:ext cx="1744920" cy="360360"/>
            <a:chOff x="1169640" y="5705640"/>
            <a:chExt cx="1744920" cy="360360"/>
          </a:xfrm>
        </p:grpSpPr>
        <p:sp>
          <p:nvSpPr>
            <p:cNvPr id="292" name=""/>
            <p:cNvSpPr/>
            <p:nvPr/>
          </p:nvSpPr>
          <p:spPr>
            <a:xfrm>
              <a:off x="2063520" y="570564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69280" y="570564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Key Aspec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5840" y="1082160"/>
            <a:ext cx="8572320" cy="52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 management constru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parating data from meta-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 item referen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, proprietary, libra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clusion of implicit &amp;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&amp; complex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ANDOR SUPER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‘associative entities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‘level discriminator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nd meas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and individu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ing Conven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listed in alphabetical ord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ction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zone_of_stru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given full na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breviations avoi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reflects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assembly_design_structural_member_lin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8160" y="3381480"/>
            <a:ext cx="270180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6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10008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38440" y="3179880"/>
              <a:ext cx="204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1680" y="4951440"/>
              <a:ext cx="143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C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4480" y="1822320"/>
              <a:ext cx="170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56600" y="166356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roduct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Modell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184400"/>
            <a:ext cx="853416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04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7" name=""/>
          <p:cNvCxnSpPr>
            <a:stCxn id="308" idx="2"/>
            <a:endCxn id="305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12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15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7" name=""/>
          <p:cNvCxnSpPr>
            <a:stCxn id="304" idx="2"/>
            <a:endCxn id="316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4" idx="2"/>
            <a:endCxn id="313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19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20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24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32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36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9" name=""/>
          <p:cNvCxnSpPr>
            <a:stCxn id="304" idx="2"/>
            <a:endCxn id="328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2"/>
            <a:endCxn id="310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3" idx="2"/>
            <a:endCxn id="322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560" y="114156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1775520"/>
            <a:ext cx="1080" cy="99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1800" y="183024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52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37280" y="256536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1574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72440" y="23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33440" y="33163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63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66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8" name=""/>
          <p:cNvCxnSpPr>
            <a:stCxn id="352" idx="2"/>
            <a:endCxn id="367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2" idx="2"/>
            <a:endCxn id="364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0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71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75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83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87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52" idx="2"/>
            <a:endCxn id="379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46" idx="3"/>
            <a:endCxn id="359" idx="0"/>
          </p:cNvCxnSpPr>
          <p:nvPr/>
        </p:nvCxnSpPr>
        <p:spPr>
          <a:xfrm>
            <a:off x="3652920" y="135360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931000" y="2897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56" idx="3"/>
            <a:endCxn id="392" idx="2"/>
          </p:cNvCxnSpPr>
          <p:nvPr/>
        </p:nvCxnSpPr>
        <p:spPr>
          <a:xfrm flipV="1">
            <a:off x="2881080" y="299016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3212640" y="2608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960" y="9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7" idx="2"/>
            <a:endCxn id="361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8" idx="2"/>
            <a:endCxn id="373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401" idx="6"/>
            <a:endCxn id="358" idx="2"/>
          </p:cNvCxnSpPr>
          <p:nvPr/>
        </p:nvCxnSpPr>
        <p:spPr>
          <a:xfrm flipV="1">
            <a:off x="5938560" y="330984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5737320" y="3836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7560" y="396072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5" idx="0"/>
            <a:endCxn id="406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3" idx="3"/>
            <a:endCxn id="410" idx="0"/>
          </p:cNvCxnSpPr>
          <p:nvPr/>
        </p:nvCxnSpPr>
        <p:spPr>
          <a:xfrm>
            <a:off x="3652920" y="417312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9" idx="3"/>
            <a:endCxn id="412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421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6" idx="2"/>
            <a:endCxn id="421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27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428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431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4"/>
            <a:endCxn id="434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4"/>
            <a:endCxn id="438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0"/>
            <a:endCxn id="432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445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0"/>
            <a:endCxn id="429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2" idx="2"/>
            <a:endCxn id="453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6" idx="2"/>
            <a:endCxn id="452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8" idx="2"/>
            <a:endCxn id="466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8" idx="2"/>
            <a:endCxn id="464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71" idx="2"/>
            <a:endCxn id="472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71" idx="2"/>
            <a:endCxn id="474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65" idx="3"/>
            <a:endCxn id="480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63" idx="3"/>
            <a:endCxn id="482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83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484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486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4920" y="38088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DESCRIPTION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NAME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SCHEMA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0=GROUP(‘US Flavour list’, ‘List of item references in accordanc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1=FLAVOUR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3600" y="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licit and Explicit Geomet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1 contained no provision for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geometry defined implicitly using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ncorporates the whole of STEP Part 4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the EXPRESS constructs for geometry and topology included in LPM/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as resources a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LPM/5 Objects are categorized (through subtyping) as either simple or complex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pending on the definition of the shape of 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implicitly through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mplex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explicitly using constructs from STEP Part 4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71800" y="1200240"/>
            <a:ext cx="5943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Fundamental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Key Aspe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8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1122120"/>
            <a:ext cx="826776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PERTYPE OF (ONE OF(object_simple, object_complex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simpl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ep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id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complex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hape : shape_representation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DOR SUPER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8400" y="1235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98720" y="190332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003680" y="3049560"/>
            <a:ext cx="858240" cy="398880"/>
            <a:chOff x="1003680" y="3049560"/>
            <a:chExt cx="858240" cy="398880"/>
          </a:xfrm>
        </p:grpSpPr>
        <p:sp>
          <p:nvSpPr>
            <p:cNvPr id="502" name=""/>
            <p:cNvSpPr/>
            <p:nvPr/>
          </p:nvSpPr>
          <p:spPr>
            <a:xfrm>
              <a:off x="1003680" y="304956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4720" y="3151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27480" y="2522520"/>
            <a:ext cx="1234440" cy="398880"/>
            <a:chOff x="627480" y="2522520"/>
            <a:chExt cx="1234440" cy="398880"/>
          </a:xfrm>
        </p:grpSpPr>
        <p:sp>
          <p:nvSpPr>
            <p:cNvPr id="505" name=""/>
            <p:cNvSpPr/>
            <p:nvPr/>
          </p:nvSpPr>
          <p:spPr>
            <a:xfrm>
              <a:off x="627480" y="252252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74720" y="263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7" name=""/>
          <p:cNvCxnSpPr>
            <a:stCxn id="508" idx="2"/>
            <a:endCxn id="506" idx="6"/>
          </p:cNvCxnSpPr>
          <p:nvPr/>
        </p:nvCxnSpPr>
        <p:spPr>
          <a:xfrm rot="5400000">
            <a:off x="1581480" y="1959480"/>
            <a:ext cx="10818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8" idx="2"/>
            <a:endCxn id="503" idx="6"/>
          </p:cNvCxnSpPr>
          <p:nvPr/>
        </p:nvCxnSpPr>
        <p:spPr>
          <a:xfrm rot="5400000">
            <a:off x="1325160" y="2215800"/>
            <a:ext cx="159444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10" name=""/>
          <p:cNvGrpSpPr/>
          <p:nvPr/>
        </p:nvGrpSpPr>
        <p:grpSpPr>
          <a:xfrm>
            <a:off x="526320" y="3570120"/>
            <a:ext cx="1335960" cy="398880"/>
            <a:chOff x="526320" y="3570120"/>
            <a:chExt cx="1335960" cy="398880"/>
          </a:xfrm>
        </p:grpSpPr>
        <p:sp>
          <p:nvSpPr>
            <p:cNvPr id="511" name=""/>
            <p:cNvSpPr/>
            <p:nvPr/>
          </p:nvSpPr>
          <p:spPr>
            <a:xfrm>
              <a:off x="526320" y="357012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74720" y="36874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3" name=""/>
          <p:cNvCxnSpPr>
            <a:stCxn id="508" idx="2"/>
            <a:endCxn id="512" idx="6"/>
          </p:cNvCxnSpPr>
          <p:nvPr/>
        </p:nvCxnSpPr>
        <p:spPr>
          <a:xfrm rot="5400000">
            <a:off x="1056600" y="2484360"/>
            <a:ext cx="21312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976400" y="227160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746600" y="2432160"/>
            <a:ext cx="3232440" cy="703800"/>
            <a:chOff x="4746600" y="2432160"/>
            <a:chExt cx="3232440" cy="703800"/>
          </a:xfrm>
        </p:grpSpPr>
        <p:sp>
          <p:nvSpPr>
            <p:cNvPr id="516" name=""/>
            <p:cNvSpPr/>
            <p:nvPr/>
          </p:nvSpPr>
          <p:spPr>
            <a:xfrm>
              <a:off x="4965120" y="243216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46600" y="27082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8" name=""/>
          <p:cNvCxnSpPr>
            <a:stCxn id="519" idx="2"/>
            <a:endCxn id="517" idx="2"/>
          </p:cNvCxnSpPr>
          <p:nvPr/>
        </p:nvCxnSpPr>
        <p:spPr>
          <a:xfrm flipH="1" rot="16200000">
            <a:off x="3996720" y="2081520"/>
            <a:ext cx="1151640" cy="289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219564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032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48440" y="18572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910840" y="1231920"/>
            <a:ext cx="1086120" cy="622080"/>
            <a:chOff x="5910840" y="1231920"/>
            <a:chExt cx="1086120" cy="622080"/>
          </a:xfrm>
        </p:grpSpPr>
        <p:sp>
          <p:nvSpPr>
            <p:cNvPr id="522" name=""/>
            <p:cNvSpPr/>
            <p:nvPr/>
          </p:nvSpPr>
          <p:spPr>
            <a:xfrm>
              <a:off x="5910840" y="1231920"/>
              <a:ext cx="1086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80280" y="166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4" name=""/>
          <p:cNvCxnSpPr>
            <a:stCxn id="516" idx="0"/>
            <a:endCxn id="523" idx="4"/>
          </p:cNvCxnSpPr>
          <p:nvPr/>
        </p:nvCxnSpPr>
        <p:spPr>
          <a:xfrm flipV="1">
            <a:off x="6471720" y="1868040"/>
            <a:ext cx="252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353520" y="4162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46280" y="44686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8" idx="2"/>
            <a:endCxn id="526" idx="6"/>
          </p:cNvCxnSpPr>
          <p:nvPr/>
        </p:nvCxnSpPr>
        <p:spPr>
          <a:xfrm rot="5400000">
            <a:off x="651600" y="2860560"/>
            <a:ext cx="291240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ociative entitie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75280" y="2044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0"/>
            <a:endCxn id="529" idx="4"/>
          </p:cNvCxnSpPr>
          <p:nvPr/>
        </p:nvCxnSpPr>
        <p:spPr>
          <a:xfrm flipV="1">
            <a:off x="4249800" y="2210760"/>
            <a:ext cx="2160" cy="336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1998000" y="4429080"/>
            <a:ext cx="306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ined_par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quired_join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27600" y="144288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53880" y="3430440"/>
            <a:ext cx="3013920" cy="773280"/>
            <a:chOff x="5753880" y="3430440"/>
            <a:chExt cx="3013920" cy="773280"/>
          </a:xfrm>
        </p:grpSpPr>
        <p:sp>
          <p:nvSpPr>
            <p:cNvPr id="535" name=""/>
            <p:cNvSpPr/>
            <p:nvPr/>
          </p:nvSpPr>
          <p:spPr>
            <a:xfrm>
              <a:off x="7184880" y="3430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53880" y="360036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4880" y="4051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24720" y="16095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8" idx="3"/>
            <a:endCxn id="535" idx="0"/>
          </p:cNvCxnSpPr>
          <p:nvPr/>
        </p:nvCxnSpPr>
        <p:spPr>
          <a:xfrm>
            <a:off x="4573440" y="1822320"/>
            <a:ext cx="2688480" cy="1594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31" idx="3"/>
            <a:endCxn id="537" idx="4"/>
          </p:cNvCxnSpPr>
          <p:nvPr/>
        </p:nvCxnSpPr>
        <p:spPr>
          <a:xfrm flipV="1">
            <a:off x="5075280" y="4217400"/>
            <a:ext cx="218664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1" name=""/>
          <p:cNvSpPr/>
          <p:nvPr/>
        </p:nvSpPr>
        <p:spPr>
          <a:xfrm>
            <a:off x="4642920" y="140004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060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95520" y="542592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29000" y="1876320"/>
            <a:ext cx="203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9240" y="3416400"/>
            <a:ext cx="1768680" cy="787320"/>
            <a:chOff x="399240" y="3416400"/>
            <a:chExt cx="1768680" cy="787320"/>
          </a:xfrm>
        </p:grpSpPr>
        <p:sp>
          <p:nvSpPr>
            <p:cNvPr id="545" name=""/>
            <p:cNvSpPr/>
            <p:nvPr/>
          </p:nvSpPr>
          <p:spPr>
            <a:xfrm>
              <a:off x="399240" y="360036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06360" y="341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06360" y="4051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38" idx="1"/>
            <a:endCxn id="546" idx="0"/>
          </p:cNvCxnSpPr>
          <p:nvPr/>
        </p:nvCxnSpPr>
        <p:spPr>
          <a:xfrm flipV="1" rot="10800000">
            <a:off x="1281960" y="1821960"/>
            <a:ext cx="2613600" cy="15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1" idx="1"/>
            <a:endCxn id="547" idx="4"/>
          </p:cNvCxnSpPr>
          <p:nvPr/>
        </p:nvCxnSpPr>
        <p:spPr>
          <a:xfrm rot="10800000">
            <a:off x="1281960" y="4217400"/>
            <a:ext cx="214056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1284480" y="542592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08200" y="3414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5" idx="3"/>
            <a:endCxn id="551" idx="0"/>
          </p:cNvCxnSpPr>
          <p:nvPr/>
        </p:nvCxnSpPr>
        <p:spPr>
          <a:xfrm flipH="1" flipV="1">
            <a:off x="1783800" y="3400200"/>
            <a:ext cx="410040" cy="413280"/>
          </a:xfrm>
          <a:prstGeom prst="bentConnector4">
            <a:avLst>
              <a:gd name="adj1" fmla="val -228295"/>
              <a:gd name="adj2" fmla="val 239145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53" name=""/>
          <p:cNvSpPr/>
          <p:nvPr/>
        </p:nvSpPr>
        <p:spPr>
          <a:xfrm>
            <a:off x="1482840" y="246708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evel Discriminator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3"/>
            <a:endCxn id="562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55" idx="0"/>
            <a:endCxn id="56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61" idx="2"/>
            <a:endCxn id="564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2" name=""/>
          <p:cNvCxnSpPr>
            <a:stCxn id="561" idx="2"/>
            <a:endCxn id="558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576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0"/>
            <a:endCxn id="555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81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2"/>
            <a:endCxn id="576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>
            <a:stCxn id="585" idx="0"/>
            <a:endCxn id="578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57" idx="3"/>
            <a:endCxn id="588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74" idx="3"/>
            <a:endCxn id="595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2"/>
            <a:endCxn id="596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points p1 (0, 0, 0) and p2 (1, 1, 1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far apart? (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143000" y="2063880"/>
          <a:ext cx="63817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3880"/>
                    <a:ext cx="63817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 of sha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00680" y="391320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69040" y="3346560"/>
            <a:ext cx="0" cy="38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37339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811920" y="3948120"/>
            <a:ext cx="2174760" cy="698400"/>
            <a:chOff x="6811920" y="3948120"/>
            <a:chExt cx="2174760" cy="698400"/>
          </a:xfrm>
        </p:grpSpPr>
        <p:sp>
          <p:nvSpPr>
            <p:cNvPr id="608" name=""/>
            <p:cNvSpPr/>
            <p:nvPr/>
          </p:nvSpPr>
          <p:spPr>
            <a:xfrm flipH="1">
              <a:off x="6811920" y="4570560"/>
              <a:ext cx="20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34400" y="449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41080" y="394812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960" y="2798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54160" y="3165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1520" y="30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26080" y="2930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57560" y="2768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250440" y="19162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088160" y="2625840"/>
            <a:ext cx="4776480" cy="784080"/>
            <a:chOff x="4088160" y="2625840"/>
            <a:chExt cx="4776480" cy="784080"/>
          </a:xfrm>
        </p:grpSpPr>
        <p:sp>
          <p:nvSpPr>
            <p:cNvPr id="619" name=""/>
            <p:cNvSpPr/>
            <p:nvPr/>
          </p:nvSpPr>
          <p:spPr>
            <a:xfrm>
              <a:off x="4088160" y="29289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858000" y="29862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97960" y="2924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946920" y="29862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870240" y="33336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12360" y="325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43600" y="26258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91000" y="2762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515600" y="1976400"/>
            <a:ext cx="77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93760" y="1390680"/>
            <a:ext cx="2647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95760" y="15256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1" idx="3"/>
            <a:endCxn id="629" idx="2"/>
          </p:cNvCxnSpPr>
          <p:nvPr/>
        </p:nvCxnSpPr>
        <p:spPr>
          <a:xfrm>
            <a:off x="3274920" y="1596600"/>
            <a:ext cx="129312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1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31" idx="2"/>
            <a:endCxn id="626" idx="0"/>
          </p:cNvCxnSpPr>
          <p:nvPr/>
        </p:nvCxnSpPr>
        <p:spPr>
          <a:xfrm flipH="1" rot="16200000">
            <a:off x="3755160" y="1035360"/>
            <a:ext cx="945360" cy="2480400"/>
          </a:xfrm>
          <a:prstGeom prst="bentConnector3">
            <a:avLst>
              <a:gd name="adj1" fmla="val 5074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11" idx="2"/>
            <a:endCxn id="616" idx="0"/>
          </p:cNvCxnSpPr>
          <p:nvPr/>
        </p:nvCxnSpPr>
        <p:spPr>
          <a:xfrm rot="5400000">
            <a:off x="1873080" y="2283480"/>
            <a:ext cx="930960" cy="1188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89720" y="388944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08320" y="336384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2000" y="37195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39760" y="440064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5338800"/>
            <a:ext cx="7251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representation item needs to be placed into it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ic representation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974320" y="3675240"/>
            <a:ext cx="805680" cy="616320"/>
            <a:chOff x="2974320" y="3675240"/>
            <a:chExt cx="805680" cy="616320"/>
          </a:xfrm>
        </p:grpSpPr>
        <p:sp>
          <p:nvSpPr>
            <p:cNvPr id="644" name=""/>
            <p:cNvSpPr/>
            <p:nvPr/>
          </p:nvSpPr>
          <p:spPr>
            <a:xfrm>
              <a:off x="2974320" y="38926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84280" y="3675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941040" y="3675240"/>
            <a:ext cx="732240" cy="615960"/>
            <a:chOff x="941040" y="3675240"/>
            <a:chExt cx="732240" cy="615960"/>
          </a:xfrm>
        </p:grpSpPr>
        <p:sp>
          <p:nvSpPr>
            <p:cNvPr id="647" name=""/>
            <p:cNvSpPr/>
            <p:nvPr/>
          </p:nvSpPr>
          <p:spPr>
            <a:xfrm>
              <a:off x="941040" y="38923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320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 flipH="1" rot="16200000">
            <a:off x="2412000" y="2680920"/>
            <a:ext cx="672120" cy="12596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50" idx="2"/>
            <a:endCxn id="652" idx="0"/>
          </p:cNvCxnSpPr>
          <p:nvPr/>
        </p:nvCxnSpPr>
        <p:spPr>
          <a:xfrm flipH="1" rot="16200000">
            <a:off x="3524040" y="1568880"/>
            <a:ext cx="672120" cy="348372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0" idx="2"/>
            <a:endCxn id="654" idx="0"/>
          </p:cNvCxnSpPr>
          <p:nvPr/>
        </p:nvCxnSpPr>
        <p:spPr>
          <a:xfrm flipH="1" rot="16200000">
            <a:off x="4860000" y="233640"/>
            <a:ext cx="672120" cy="61538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902160" y="223056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20760" y="170496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44800" y="206064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52560" y="274176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65480" y="29462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960" y="11541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4160" y="15210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1520" y="1438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26080" y="128592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0" idx="2"/>
            <a:endCxn id="648" idx="0"/>
          </p:cNvCxnSpPr>
          <p:nvPr/>
        </p:nvCxnSpPr>
        <p:spPr>
          <a:xfrm rot="5400000">
            <a:off x="1376640" y="290412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4" name=""/>
          <p:cNvGrpSpPr/>
          <p:nvPr/>
        </p:nvGrpSpPr>
        <p:grpSpPr>
          <a:xfrm>
            <a:off x="352800" y="4627440"/>
            <a:ext cx="1909080" cy="616320"/>
            <a:chOff x="352800" y="4627440"/>
            <a:chExt cx="1909080" cy="616320"/>
          </a:xfrm>
        </p:grpSpPr>
        <p:sp>
          <p:nvSpPr>
            <p:cNvPr id="665" name=""/>
            <p:cNvSpPr/>
            <p:nvPr/>
          </p:nvSpPr>
          <p:spPr>
            <a:xfrm>
              <a:off x="352800" y="48448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2840" y="4627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7" name=""/>
          <p:cNvCxnSpPr>
            <a:stCxn id="647" idx="2"/>
            <a:endCxn id="666" idx="0"/>
          </p:cNvCxnSpPr>
          <p:nvPr/>
        </p:nvCxnSpPr>
        <p:spPr>
          <a:xfrm flipH="1">
            <a:off x="1305720" y="4331880"/>
            <a:ext cx="252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1423440" y="54118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092760" y="4627440"/>
            <a:ext cx="577080" cy="616320"/>
            <a:chOff x="3092760" y="4627440"/>
            <a:chExt cx="577080" cy="616320"/>
          </a:xfrm>
        </p:grpSpPr>
        <p:sp>
          <p:nvSpPr>
            <p:cNvPr id="670" name=""/>
            <p:cNvSpPr/>
            <p:nvPr/>
          </p:nvSpPr>
          <p:spPr>
            <a:xfrm>
              <a:off x="3092760" y="4844880"/>
              <a:ext cx="57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7520" y="462744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44" idx="2"/>
            <a:endCxn id="671" idx="0"/>
          </p:cNvCxnSpPr>
          <p:nvPr/>
        </p:nvCxnSpPr>
        <p:spPr>
          <a:xfrm>
            <a:off x="3377880" y="4331880"/>
            <a:ext cx="396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2297160" y="49719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0" idx="1"/>
            <a:endCxn id="673" idx="6"/>
          </p:cNvCxnSpPr>
          <p:nvPr/>
        </p:nvCxnSpPr>
        <p:spPr>
          <a:xfrm flipH="1" flipV="1">
            <a:off x="2463840" y="5047920"/>
            <a:ext cx="5986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2489040" y="470376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163480" y="3675240"/>
            <a:ext cx="875520" cy="614520"/>
            <a:chOff x="5163480" y="3675240"/>
            <a:chExt cx="875520" cy="614520"/>
          </a:xfrm>
        </p:grpSpPr>
        <p:sp>
          <p:nvSpPr>
            <p:cNvPr id="677" name=""/>
            <p:cNvSpPr/>
            <p:nvPr/>
          </p:nvSpPr>
          <p:spPr>
            <a:xfrm>
              <a:off x="5163480" y="3890880"/>
              <a:ext cx="875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872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97988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01120" y="3675240"/>
            <a:ext cx="1143720" cy="615960"/>
            <a:chOff x="7701120" y="3675240"/>
            <a:chExt cx="1143720" cy="615960"/>
          </a:xfrm>
        </p:grpSpPr>
        <p:sp>
          <p:nvSpPr>
            <p:cNvPr id="680" name=""/>
            <p:cNvSpPr/>
            <p:nvPr/>
          </p:nvSpPr>
          <p:spPr>
            <a:xfrm>
              <a:off x="7701120" y="3892320"/>
              <a:ext cx="11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884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752616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70" idx="3"/>
            <a:endCxn id="678" idx="2"/>
          </p:cNvCxnSpPr>
          <p:nvPr/>
        </p:nvCxnSpPr>
        <p:spPr>
          <a:xfrm flipV="1">
            <a:off x="3700080" y="4103280"/>
            <a:ext cx="1266120" cy="95472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6212880" y="374976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14200" y="55846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05400" y="5708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21320" y="5398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77" idx="3"/>
            <a:endCxn id="681" idx="2"/>
          </p:cNvCxnSpPr>
          <p:nvPr/>
        </p:nvCxnSpPr>
        <p:spPr>
          <a:xfrm>
            <a:off x="6067080" y="4103280"/>
            <a:ext cx="1445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7" idx="2"/>
            <a:endCxn id="686" idx="0"/>
          </p:cNvCxnSpPr>
          <p:nvPr/>
        </p:nvCxnSpPr>
        <p:spPr>
          <a:xfrm flipH="1">
            <a:off x="5596920" y="4330800"/>
            <a:ext cx="5400" cy="1054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9" name=""/>
          <p:cNvCxnSpPr>
            <a:stCxn id="665" idx="2"/>
            <a:endCxn id="685" idx="2"/>
          </p:cNvCxnSpPr>
          <p:nvPr/>
        </p:nvCxnSpPr>
        <p:spPr>
          <a:xfrm flipH="1" rot="16200000">
            <a:off x="2648520" y="3943080"/>
            <a:ext cx="500760" cy="318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0" name=""/>
          <p:cNvSpPr/>
          <p:nvPr/>
        </p:nvSpPr>
        <p:spPr>
          <a:xfrm>
            <a:off x="5579640" y="498960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30760" y="4718160"/>
            <a:ext cx="4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86720" y="5398920"/>
            <a:ext cx="1123560" cy="576360"/>
            <a:chOff x="7686720" y="5398920"/>
            <a:chExt cx="1123560" cy="576360"/>
          </a:xfrm>
        </p:grpSpPr>
        <p:sp>
          <p:nvSpPr>
            <p:cNvPr id="693" name=""/>
            <p:cNvSpPr/>
            <p:nvPr/>
          </p:nvSpPr>
          <p:spPr>
            <a:xfrm>
              <a:off x="7891560" y="5584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6720" y="570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04040" y="539892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65920" y="5584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7" name=""/>
          <p:cNvCxnSpPr>
            <a:stCxn id="680" idx="2"/>
            <a:endCxn id="695" idx="0"/>
          </p:cNvCxnSpPr>
          <p:nvPr/>
        </p:nvCxnSpPr>
        <p:spPr>
          <a:xfrm>
            <a:off x="8273880" y="4332240"/>
            <a:ext cx="7200" cy="105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84" idx="3"/>
            <a:endCxn id="694" idx="2"/>
          </p:cNvCxnSpPr>
          <p:nvPr/>
        </p:nvCxnSpPr>
        <p:spPr>
          <a:xfrm>
            <a:off x="6560640" y="5783400"/>
            <a:ext cx="111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6532560" y="448776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its &amp;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ucts for units and measures have been taken from STEP Part 4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ing the ‘interpreted route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re specified either Globally or individual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general, constructs taken from STEP have their units assigned glob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ructs developed for LPM/5 have their units assigned individuall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ly assign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97280" y="1903320"/>
            <a:ext cx="4986360" cy="1300320"/>
            <a:chOff x="3797280" y="1903320"/>
            <a:chExt cx="4986360" cy="1300320"/>
          </a:xfrm>
        </p:grpSpPr>
        <p:sp>
          <p:nvSpPr>
            <p:cNvPr id="704" name=""/>
            <p:cNvSpPr/>
            <p:nvPr/>
          </p:nvSpPr>
          <p:spPr>
            <a:xfrm>
              <a:off x="3797280" y="2470320"/>
              <a:ext cx="28177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65640" y="1903320"/>
              <a:ext cx="0" cy="384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89680" y="2290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08520" y="3127320"/>
              <a:ext cx="20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31360" y="3051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38040" y="250524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5120" y="1182600"/>
            <a:ext cx="4776120" cy="784440"/>
            <a:chOff x="3885120" y="1182600"/>
            <a:chExt cx="4776120" cy="784440"/>
          </a:xfrm>
        </p:grpSpPr>
        <p:sp>
          <p:nvSpPr>
            <p:cNvPr id="711" name=""/>
            <p:cNvSpPr/>
            <p:nvPr/>
          </p:nvSpPr>
          <p:spPr>
            <a:xfrm>
              <a:off x="3885120" y="148608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54960" y="15429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94560" y="14810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743880" y="15429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667560" y="1890720"/>
              <a:ext cx="184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08960" y="181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40200" y="11826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09600" y="247032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4920" y="211932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98600" y="229068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456920" y="2131920"/>
            <a:ext cx="3716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00720" y="5921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89240" y="17305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47680" y="3749760"/>
            <a:ext cx="690480" cy="592560"/>
            <a:chOff x="1147680" y="3749760"/>
            <a:chExt cx="690480" cy="592560"/>
          </a:xfrm>
        </p:grpSpPr>
        <p:sp>
          <p:nvSpPr>
            <p:cNvPr id="725" name=""/>
            <p:cNvSpPr/>
            <p:nvPr/>
          </p:nvSpPr>
          <p:spPr>
            <a:xfrm>
              <a:off x="1147680" y="39718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98240" y="37497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257120" y="39538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8" name=""/>
          <p:cNvCxnSpPr>
            <a:stCxn id="718" idx="2"/>
            <a:endCxn id="726" idx="0"/>
          </p:cNvCxnSpPr>
          <p:nvPr/>
        </p:nvCxnSpPr>
        <p:spPr>
          <a:xfrm>
            <a:off x="1480680" y="321480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29" name=""/>
          <p:cNvGrpSpPr/>
          <p:nvPr/>
        </p:nvGrpSpPr>
        <p:grpSpPr>
          <a:xfrm>
            <a:off x="2112840" y="4511520"/>
            <a:ext cx="1792440" cy="398880"/>
            <a:chOff x="2112840" y="4511520"/>
            <a:chExt cx="1792440" cy="398880"/>
          </a:xfrm>
        </p:grpSpPr>
        <p:sp>
          <p:nvSpPr>
            <p:cNvPr id="730" name=""/>
            <p:cNvSpPr/>
            <p:nvPr/>
          </p:nvSpPr>
          <p:spPr>
            <a:xfrm>
              <a:off x="2336040" y="45115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12840" y="46130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39840" y="5780160"/>
            <a:ext cx="1734840" cy="398880"/>
            <a:chOff x="2139840" y="5780160"/>
            <a:chExt cx="1734840" cy="398880"/>
          </a:xfrm>
        </p:grpSpPr>
        <p:sp>
          <p:nvSpPr>
            <p:cNvPr id="733" name=""/>
            <p:cNvSpPr/>
            <p:nvPr/>
          </p:nvSpPr>
          <p:spPr>
            <a:xfrm>
              <a:off x="2363400" y="5780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9840" y="58816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5" name=""/>
          <p:cNvCxnSpPr>
            <a:stCxn id="725" idx="2"/>
            <a:endCxn id="734" idx="2"/>
          </p:cNvCxnSpPr>
          <p:nvPr/>
        </p:nvCxnSpPr>
        <p:spPr>
          <a:xfrm flipH="1" rot="16200000">
            <a:off x="1011960" y="4862160"/>
            <a:ext cx="159444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25" idx="2"/>
            <a:endCxn id="731" idx="2"/>
          </p:cNvCxnSpPr>
          <p:nvPr/>
        </p:nvCxnSpPr>
        <p:spPr>
          <a:xfrm flipH="1" rot="16200000">
            <a:off x="1633680" y="42415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195480" y="3311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97880" y="504972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75320" y="4511520"/>
            <a:ext cx="261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53200" y="4613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0" idx="3"/>
            <a:endCxn id="740" idx="2"/>
          </p:cNvCxnSpPr>
          <p:nvPr/>
        </p:nvCxnSpPr>
        <p:spPr>
          <a:xfrm flipV="1">
            <a:off x="3933360" y="4706640"/>
            <a:ext cx="1405440" cy="1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6499800" y="5686560"/>
            <a:ext cx="918360" cy="576000"/>
            <a:chOff x="6499800" y="5686560"/>
            <a:chExt cx="918360" cy="576000"/>
          </a:xfrm>
        </p:grpSpPr>
        <p:sp>
          <p:nvSpPr>
            <p:cNvPr id="743" name=""/>
            <p:cNvSpPr/>
            <p:nvPr/>
          </p:nvSpPr>
          <p:spPr>
            <a:xfrm>
              <a:off x="6499800" y="5872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11920" y="5686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3800" y="58723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6" name=""/>
          <p:cNvCxnSpPr>
            <a:stCxn id="739" idx="2"/>
            <a:endCxn id="744" idx="0"/>
          </p:cNvCxnSpPr>
          <p:nvPr/>
        </p:nvCxnSpPr>
        <p:spPr>
          <a:xfrm>
            <a:off x="6883200" y="4951440"/>
            <a:ext cx="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5780160" y="478476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7" idx="2"/>
            <a:endCxn id="749" idx="0"/>
          </p:cNvCxnSpPr>
          <p:nvPr/>
        </p:nvCxnSpPr>
        <p:spPr>
          <a:xfrm rot="5400000">
            <a:off x="4158720" y="3849480"/>
            <a:ext cx="649800" cy="2780280"/>
          </a:xfrm>
          <a:prstGeom prst="bentConnector3">
            <a:avLst>
              <a:gd name="adj1" fmla="val 7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6869880" y="5094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99680" y="4330800"/>
            <a:ext cx="110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0240" y="5578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3"/>
            <a:endCxn id="722" idx="2"/>
          </p:cNvCxnSpPr>
          <p:nvPr/>
        </p:nvCxnSpPr>
        <p:spPr>
          <a:xfrm>
            <a:off x="3903840" y="5992560"/>
            <a:ext cx="1483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978000" y="5643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3640" y="2620800"/>
            <a:ext cx="1664640" cy="398880"/>
            <a:chOff x="503640" y="2620800"/>
            <a:chExt cx="1664640" cy="398880"/>
          </a:xfrm>
        </p:grpSpPr>
        <p:sp>
          <p:nvSpPr>
            <p:cNvPr id="756" name=""/>
            <p:cNvSpPr/>
            <p:nvPr/>
          </p:nvSpPr>
          <p:spPr>
            <a:xfrm>
              <a:off x="1981080" y="27385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640" y="26208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94720" y="3227400"/>
            <a:ext cx="1573560" cy="398880"/>
            <a:chOff x="594720" y="3227400"/>
            <a:chExt cx="1573560" cy="398880"/>
          </a:xfrm>
        </p:grpSpPr>
        <p:sp>
          <p:nvSpPr>
            <p:cNvPr id="759" name=""/>
            <p:cNvSpPr/>
            <p:nvPr/>
          </p:nvSpPr>
          <p:spPr>
            <a:xfrm>
              <a:off x="594720" y="322740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81080" y="33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12080" y="3789360"/>
            <a:ext cx="1456200" cy="398880"/>
            <a:chOff x="712080" y="3789360"/>
            <a:chExt cx="1456200" cy="398880"/>
          </a:xfrm>
        </p:grpSpPr>
        <p:sp>
          <p:nvSpPr>
            <p:cNvPr id="762" name=""/>
            <p:cNvSpPr/>
            <p:nvPr/>
          </p:nvSpPr>
          <p:spPr>
            <a:xfrm>
              <a:off x="712080" y="37893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81080" y="39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191120" y="3608280"/>
            <a:ext cx="4189320" cy="508680"/>
            <a:chOff x="4191120" y="3608280"/>
            <a:chExt cx="4189320" cy="508680"/>
          </a:xfrm>
        </p:grpSpPr>
        <p:sp>
          <p:nvSpPr>
            <p:cNvPr id="765" name=""/>
            <p:cNvSpPr/>
            <p:nvPr/>
          </p:nvSpPr>
          <p:spPr>
            <a:xfrm>
              <a:off x="4428000" y="371808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91120" y="38638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4200" y="3608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341840" y="397656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28160" y="3892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27280" y="442440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4570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28160" y="43149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256520" y="46832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142120" y="4599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45000" y="1419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7" idx="3"/>
            <a:endCxn id="775" idx="2"/>
          </p:cNvCxnSpPr>
          <p:nvPr/>
        </p:nvCxnSpPr>
        <p:spPr>
          <a:xfrm>
            <a:off x="3903840" y="149040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4022640" y="11415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3920" y="127800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191120" y="2454120"/>
            <a:ext cx="4004280" cy="1009440"/>
            <a:chOff x="4191120" y="2454120"/>
            <a:chExt cx="4004280" cy="1009440"/>
          </a:xfrm>
        </p:grpSpPr>
        <p:sp>
          <p:nvSpPr>
            <p:cNvPr id="781" name=""/>
            <p:cNvSpPr/>
            <p:nvPr/>
          </p:nvSpPr>
          <p:spPr>
            <a:xfrm>
              <a:off x="4431600" y="262080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67760" y="2454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6438960" y="2585880"/>
              <a:ext cx="1756440" cy="374400"/>
              <a:chOff x="6438960" y="2585880"/>
              <a:chExt cx="1756440" cy="374400"/>
            </a:xfrm>
          </p:grpSpPr>
          <p:sp>
            <p:nvSpPr>
              <p:cNvPr id="785" name=""/>
              <p:cNvSpPr/>
              <p:nvPr/>
            </p:nvSpPr>
            <p:spPr>
              <a:xfrm>
                <a:off x="6438960" y="2738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95920" y="258912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8097120" y="258588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453000" y="3088800"/>
              <a:ext cx="1339200" cy="374760"/>
              <a:chOff x="6453000" y="3088800"/>
              <a:chExt cx="1339200" cy="374760"/>
            </a:xfrm>
          </p:grpSpPr>
          <p:sp>
            <p:nvSpPr>
              <p:cNvPr id="789" name=""/>
              <p:cNvSpPr/>
              <p:nvPr/>
            </p:nvSpPr>
            <p:spPr>
              <a:xfrm>
                <a:off x="6453000" y="3227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09960" y="309240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694280" y="30888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2" name=""/>
            <p:cNvCxnSpPr>
              <a:stCxn id="781" idx="3"/>
              <a:endCxn id="785" idx="2"/>
            </p:cNvCxnSpPr>
            <p:nvPr/>
          </p:nvCxnSpPr>
          <p:spPr>
            <a:xfrm flipV="1">
              <a:off x="5378040" y="281376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1" idx="2"/>
              <a:endCxn id="789" idx="2"/>
            </p:cNvCxnSpPr>
            <p:nvPr/>
          </p:nvCxnSpPr>
          <p:spPr>
            <a:xfrm flipH="1" rot="16200000">
              <a:off x="5542560" y="240804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5567400" y="294480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672440" y="5522760"/>
            <a:ext cx="2318760" cy="587880"/>
            <a:chOff x="4672440" y="5522760"/>
            <a:chExt cx="2318760" cy="587880"/>
          </a:xfrm>
        </p:grpSpPr>
        <p:sp>
          <p:nvSpPr>
            <p:cNvPr id="796" name=""/>
            <p:cNvSpPr/>
            <p:nvPr/>
          </p:nvSpPr>
          <p:spPr>
            <a:xfrm>
              <a:off x="4672440" y="571176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59640" y="552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8" name=""/>
          <p:cNvCxnSpPr>
            <a:stCxn id="770" idx="2"/>
            <a:endCxn id="797" idx="0"/>
          </p:cNvCxnSpPr>
          <p:nvPr/>
        </p:nvCxnSpPr>
        <p:spPr>
          <a:xfrm>
            <a:off x="5829120" y="4863600"/>
            <a:ext cx="6840" cy="645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9" name=""/>
          <p:cNvSpPr/>
          <p:nvPr/>
        </p:nvSpPr>
        <p:spPr>
          <a:xfrm>
            <a:off x="5849640" y="505152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363760" y="1278000"/>
            <a:ext cx="1511280" cy="411120"/>
            <a:chOff x="2363760" y="1278000"/>
            <a:chExt cx="1511280" cy="411120"/>
          </a:xfrm>
        </p:grpSpPr>
        <p:sp>
          <p:nvSpPr>
            <p:cNvPr id="777" name=""/>
            <p:cNvSpPr/>
            <p:nvPr/>
          </p:nvSpPr>
          <p:spPr>
            <a:xfrm>
              <a:off x="2363760" y="1278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9552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7840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"/>
          <p:cNvCxnSpPr>
            <a:stCxn id="801" idx="2"/>
            <a:endCxn id="756" idx="6"/>
          </p:cNvCxnSpPr>
          <p:nvPr/>
        </p:nvCxnSpPr>
        <p:spPr>
          <a:xfrm rot="5400000">
            <a:off x="1799640" y="2085840"/>
            <a:ext cx="114372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4" name=""/>
          <p:cNvCxnSpPr>
            <a:stCxn id="801" idx="2"/>
            <a:endCxn id="760" idx="6"/>
          </p:cNvCxnSpPr>
          <p:nvPr/>
        </p:nvCxnSpPr>
        <p:spPr>
          <a:xfrm rot="5400000">
            <a:off x="1485360" y="240012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1" idx="2"/>
            <a:endCxn id="763" idx="6"/>
          </p:cNvCxnSpPr>
          <p:nvPr/>
        </p:nvCxnSpPr>
        <p:spPr>
          <a:xfrm rot="5400000">
            <a:off x="1218600" y="266652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802" idx="2"/>
            <a:endCxn id="766" idx="2"/>
          </p:cNvCxnSpPr>
          <p:nvPr/>
        </p:nvCxnSpPr>
        <p:spPr>
          <a:xfrm flipH="1" rot="16200000">
            <a:off x="2760480" y="2556360"/>
            <a:ext cx="226908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2" idx="2"/>
            <a:endCxn id="782" idx="2"/>
          </p:cNvCxnSpPr>
          <p:nvPr/>
        </p:nvCxnSpPr>
        <p:spPr>
          <a:xfrm flipH="1" rot="16200000">
            <a:off x="3301920" y="201528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8" name=""/>
          <p:cNvCxnSpPr>
            <a:stCxn id="802" idx="2"/>
            <a:endCxn id="771" idx="2"/>
          </p:cNvCxnSpPr>
          <p:nvPr/>
        </p:nvCxnSpPr>
        <p:spPr>
          <a:xfrm flipH="1" rot="16200000">
            <a:off x="2407320" y="2909880"/>
            <a:ext cx="29757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220644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7956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75080" y="17985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exists at the logical level, as opposed to the application or physi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roduct we are concerned with is a building-type structural steel fra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a limited representation of some aspect of the real wor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2600" y="1157400"/>
            <a:ext cx="861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'nodal points', (#1, #2, #3, #4, #5, #6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(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nodal points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Force Unit (K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1 = (FORCE_UNIT()NAMED_UNIT(*)SI_UNIT(.KILO.,.NEWTO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Plane Angle Unit (radia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3 = (NAMED_UNIT(*)PLANE_ANGLE_UNIT()SI_UNIT($,.RADIA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riv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1040" y="1316160"/>
            <a:ext cx="8531280" cy="48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 (#1165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1.0, #116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4380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819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22" name=""/>
          <p:cNvCxnSpPr>
            <a:stCxn id="823" idx="2"/>
            <a:endCxn id="820" idx="0"/>
          </p:cNvCxnSpPr>
          <p:nvPr/>
        </p:nvCxnSpPr>
        <p:spPr>
          <a:xfrm>
            <a:off x="6584760" y="1879560"/>
            <a:ext cx="1080" cy="51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24" name=""/>
          <p:cNvGrpSpPr/>
          <p:nvPr/>
        </p:nvGrpSpPr>
        <p:grpSpPr>
          <a:xfrm>
            <a:off x="7205760" y="3168720"/>
            <a:ext cx="1792440" cy="398880"/>
            <a:chOff x="7205760" y="3168720"/>
            <a:chExt cx="1792440" cy="398880"/>
          </a:xfrm>
        </p:grpSpPr>
        <p:sp>
          <p:nvSpPr>
            <p:cNvPr id="825" name=""/>
            <p:cNvSpPr/>
            <p:nvPr/>
          </p:nvSpPr>
          <p:spPr>
            <a:xfrm>
              <a:off x="7428960" y="3168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05760" y="3270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232760" y="3759120"/>
            <a:ext cx="1734840" cy="398880"/>
            <a:chOff x="7232760" y="3759120"/>
            <a:chExt cx="1734840" cy="398880"/>
          </a:xfrm>
        </p:grpSpPr>
        <p:sp>
          <p:nvSpPr>
            <p:cNvPr id="828" name=""/>
            <p:cNvSpPr/>
            <p:nvPr/>
          </p:nvSpPr>
          <p:spPr>
            <a:xfrm>
              <a:off x="7456320" y="37591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2760" y="3860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0" name=""/>
          <p:cNvCxnSpPr>
            <a:stCxn id="819" idx="2"/>
            <a:endCxn id="829" idx="2"/>
          </p:cNvCxnSpPr>
          <p:nvPr/>
        </p:nvCxnSpPr>
        <p:spPr>
          <a:xfrm flipH="1" rot="16200000">
            <a:off x="6443280" y="318024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19" idx="2"/>
            <a:endCxn id="826" idx="2"/>
          </p:cNvCxnSpPr>
          <p:nvPr/>
        </p:nvCxnSpPr>
        <p:spPr>
          <a:xfrm flipH="1" rot="16200000">
            <a:off x="6726240" y="289836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1080" y="146052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14760" y="15652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95076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stCxn id="817" idx="1"/>
            <a:endCxn id="834" idx="6"/>
          </p:cNvCxnSpPr>
          <p:nvPr/>
        </p:nvCxnSpPr>
        <p:spPr>
          <a:xfrm flipH="1">
            <a:off x="2920320" y="1652400"/>
            <a:ext cx="18961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2852280" y="1271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94160" y="175248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21120" y="2897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79560" y="26193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92520" y="355932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08520" y="3803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64240" y="443232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8520" y="4714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38" idx="2"/>
            <a:endCxn id="839" idx="6"/>
          </p:cNvCxnSpPr>
          <p:nvPr/>
        </p:nvCxnSpPr>
        <p:spPr>
          <a:xfrm rot="5400000">
            <a:off x="4631040" y="2275560"/>
            <a:ext cx="1121400" cy="310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38" idx="2"/>
            <a:endCxn id="842" idx="6"/>
          </p:cNvCxnSpPr>
          <p:nvPr/>
        </p:nvCxnSpPr>
        <p:spPr>
          <a:xfrm rot="5400000">
            <a:off x="4171320" y="2721960"/>
            <a:ext cx="202752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8" idx="2"/>
            <a:endCxn id="844" idx="6"/>
          </p:cNvCxnSpPr>
          <p:nvPr/>
        </p:nvCxnSpPr>
        <p:spPr>
          <a:xfrm rot="5400000">
            <a:off x="3715560" y="3178080"/>
            <a:ext cx="293904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5009760" y="2457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20640" y="3479760"/>
            <a:ext cx="1123560" cy="576360"/>
            <a:chOff x="620640" y="3479760"/>
            <a:chExt cx="1123560" cy="576360"/>
          </a:xfrm>
        </p:grpSpPr>
        <p:sp>
          <p:nvSpPr>
            <p:cNvPr id="850" name=""/>
            <p:cNvSpPr/>
            <p:nvPr/>
          </p:nvSpPr>
          <p:spPr>
            <a:xfrm>
              <a:off x="825480" y="3665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0640" y="37893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37960" y="347976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99840" y="3665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4" name=""/>
          <p:cNvCxnSpPr>
            <a:stCxn id="855" idx="2"/>
            <a:endCxn id="852" idx="0"/>
          </p:cNvCxnSpPr>
          <p:nvPr/>
        </p:nvCxnSpPr>
        <p:spPr>
          <a:xfrm>
            <a:off x="1209240" y="304920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56" name=""/>
          <p:cNvGrpSpPr/>
          <p:nvPr/>
        </p:nvGrpSpPr>
        <p:grpSpPr>
          <a:xfrm>
            <a:off x="6042600" y="4599000"/>
            <a:ext cx="1664640" cy="398880"/>
            <a:chOff x="6042600" y="4599000"/>
            <a:chExt cx="1664640" cy="398880"/>
          </a:xfrm>
        </p:grpSpPr>
        <p:sp>
          <p:nvSpPr>
            <p:cNvPr id="857" name=""/>
            <p:cNvSpPr/>
            <p:nvPr/>
          </p:nvSpPr>
          <p:spPr>
            <a:xfrm>
              <a:off x="7520040" y="4716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42600" y="4599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133320" y="5205240"/>
            <a:ext cx="1573560" cy="398880"/>
            <a:chOff x="6133320" y="5205240"/>
            <a:chExt cx="1573560" cy="398880"/>
          </a:xfrm>
        </p:grpSpPr>
        <p:sp>
          <p:nvSpPr>
            <p:cNvPr id="860" name=""/>
            <p:cNvSpPr/>
            <p:nvPr/>
          </p:nvSpPr>
          <p:spPr>
            <a:xfrm>
              <a:off x="6133320" y="520524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19680" y="534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250680" y="5767560"/>
            <a:ext cx="1456200" cy="398880"/>
            <a:chOff x="6250680" y="5767560"/>
            <a:chExt cx="1456200" cy="398880"/>
          </a:xfrm>
        </p:grpSpPr>
        <p:sp>
          <p:nvSpPr>
            <p:cNvPr id="863" name=""/>
            <p:cNvSpPr/>
            <p:nvPr/>
          </p:nvSpPr>
          <p:spPr>
            <a:xfrm>
              <a:off x="6250680" y="57675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19680" y="58784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28" idx="2"/>
            <a:endCxn id="857" idx="6"/>
          </p:cNvCxnSpPr>
          <p:nvPr/>
        </p:nvCxnSpPr>
        <p:spPr>
          <a:xfrm rot="5400000">
            <a:off x="7668000" y="4266360"/>
            <a:ext cx="61164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6" name=""/>
          <p:cNvCxnSpPr>
            <a:stCxn id="828" idx="2"/>
            <a:endCxn id="861" idx="6"/>
          </p:cNvCxnSpPr>
          <p:nvPr/>
        </p:nvCxnSpPr>
        <p:spPr>
          <a:xfrm rot="5400000">
            <a:off x="7353360" y="4581000"/>
            <a:ext cx="124056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7" name=""/>
          <p:cNvCxnSpPr>
            <a:stCxn id="828" idx="2"/>
            <a:endCxn id="864" idx="6"/>
          </p:cNvCxnSpPr>
          <p:nvPr/>
        </p:nvCxnSpPr>
        <p:spPr>
          <a:xfrm rot="5400000">
            <a:off x="7086960" y="4847400"/>
            <a:ext cx="177372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7830720" y="4371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98440" y="4064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02400" y="2639880"/>
            <a:ext cx="2002680" cy="368280"/>
            <a:chOff x="302400" y="2639880"/>
            <a:chExt cx="2002680" cy="368280"/>
          </a:xfrm>
        </p:grpSpPr>
        <p:sp>
          <p:nvSpPr>
            <p:cNvPr id="855" name=""/>
            <p:cNvSpPr/>
            <p:nvPr/>
          </p:nvSpPr>
          <p:spPr>
            <a:xfrm>
              <a:off x="302400" y="26398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52440" y="2771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72" idx="2"/>
            <a:endCxn id="871" idx="6"/>
          </p:cNvCxnSpPr>
          <p:nvPr/>
        </p:nvCxnSpPr>
        <p:spPr>
          <a:xfrm rot="5400000">
            <a:off x="1924920" y="2241360"/>
            <a:ext cx="100080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72" idx="2"/>
            <a:endCxn id="875" idx="6"/>
          </p:cNvCxnSpPr>
          <p:nvPr/>
        </p:nvCxnSpPr>
        <p:spPr>
          <a:xfrm rot="5400000">
            <a:off x="986760" y="3193920"/>
            <a:ext cx="2891520" cy="199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72" idx="2"/>
            <a:endCxn id="877" idx="6"/>
          </p:cNvCxnSpPr>
          <p:nvPr/>
        </p:nvCxnSpPr>
        <p:spPr>
          <a:xfrm rot="5400000">
            <a:off x="344160" y="3803040"/>
            <a:ext cx="4143600" cy="23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69" idx="4"/>
            <a:endCxn id="879" idx="0"/>
          </p:cNvCxnSpPr>
          <p:nvPr/>
        </p:nvCxnSpPr>
        <p:spPr>
          <a:xfrm>
            <a:off x="1274400" y="4230720"/>
            <a:ext cx="118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80" name=""/>
          <p:cNvGrpSpPr/>
          <p:nvPr/>
        </p:nvGrpSpPr>
        <p:grpSpPr>
          <a:xfrm>
            <a:off x="415800" y="4530600"/>
            <a:ext cx="1903680" cy="368280"/>
            <a:chOff x="415800" y="4530600"/>
            <a:chExt cx="1903680" cy="368280"/>
          </a:xfrm>
        </p:grpSpPr>
        <p:sp>
          <p:nvSpPr>
            <p:cNvPr id="879" name=""/>
            <p:cNvSpPr/>
            <p:nvPr/>
          </p:nvSpPr>
          <p:spPr>
            <a:xfrm>
              <a:off x="415800" y="453060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66840" y="46623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82760" y="5797440"/>
            <a:ext cx="1803240" cy="368280"/>
            <a:chOff x="482760" y="5797440"/>
            <a:chExt cx="1803240" cy="368280"/>
          </a:xfrm>
        </p:grpSpPr>
        <p:sp>
          <p:nvSpPr>
            <p:cNvPr id="882" name=""/>
            <p:cNvSpPr/>
            <p:nvPr/>
          </p:nvSpPr>
          <p:spPr>
            <a:xfrm>
              <a:off x="482760" y="579744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5915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3" name=""/>
          <p:cNvCxnSpPr>
            <a:stCxn id="882" idx="1"/>
            <a:endCxn id="851" idx="2"/>
          </p:cNvCxnSpPr>
          <p:nvPr/>
        </p:nvCxnSpPr>
        <p:spPr>
          <a:xfrm flipH="1" rot="10800000">
            <a:off x="449640" y="386496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6532560" y="17622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298600" y="5159520"/>
            <a:ext cx="3911760" cy="1127160"/>
            <a:chOff x="2298600" y="5159520"/>
            <a:chExt cx="3911760" cy="1127160"/>
          </a:xfrm>
        </p:grpSpPr>
        <p:sp>
          <p:nvSpPr>
            <p:cNvPr id="885" name=""/>
            <p:cNvSpPr/>
            <p:nvPr/>
          </p:nvSpPr>
          <p:spPr>
            <a:xfrm flipV="1">
              <a:off x="3936960" y="5181480"/>
              <a:ext cx="2273400" cy="11052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740" stAng="10800000" swAng="5400000"/>
                  <a:lnTo>
                    <a:pt x="14741" y="2420"/>
                  </a:lnTo>
                  <a:lnTo>
                    <a:pt x="14741" y="0"/>
                  </a:lnTo>
                  <a:lnTo>
                    <a:pt x="21600" y="6079"/>
                  </a:lnTo>
                  <a:lnTo>
                    <a:pt x="14741" y="12158"/>
                  </a:lnTo>
                  <a:lnTo>
                    <a:pt x="14741" y="9738"/>
                  </a:lnTo>
                  <a:lnTo>
                    <a:pt x="12427" y="9738"/>
                  </a:lnTo>
                  <a:arcTo wR="5109" hR="2422" stAng="16200000" swAng="-5400000"/>
                  <a:lnTo>
                    <a:pt x="7318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2298600" y="5181480"/>
              <a:ext cx="1650960" cy="1105200"/>
            </a:xfrm>
            <a:custGeom>
              <a:avLst/>
              <a:gdLst>
                <a:gd name="textAreaLeft" fmla="*/ 360 w 1650960"/>
                <a:gd name="textAreaRight" fmla="*/ 1651680 w 165096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228" stAng="10800000" swAng="5400000"/>
                  <a:lnTo>
                    <a:pt x="12427" y="1932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10226"/>
                  </a:lnTo>
                  <a:lnTo>
                    <a:pt x="12427" y="10226"/>
                  </a:lnTo>
                  <a:arcTo wR="4133" hR="1934" stAng="16200000" swAng="-5400000"/>
                  <a:lnTo>
                    <a:pt x="829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52240" y="515952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 in u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32960" y="4629240"/>
            <a:ext cx="2561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24640" y="5124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78640" y="5378400"/>
            <a:ext cx="3425400" cy="616680"/>
            <a:chOff x="278640" y="5378400"/>
            <a:chExt cx="3425400" cy="616680"/>
          </a:xfrm>
        </p:grpSpPr>
        <p:sp>
          <p:nvSpPr>
            <p:cNvPr id="892" name=""/>
            <p:cNvSpPr/>
            <p:nvPr/>
          </p:nvSpPr>
          <p:spPr>
            <a:xfrm>
              <a:off x="278640" y="5596200"/>
              <a:ext cx="34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circle_hol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19160" y="5378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4" name=""/>
          <p:cNvCxnSpPr>
            <a:stCxn id="889" idx="2"/>
            <a:endCxn id="893" idx="0"/>
          </p:cNvCxnSpPr>
          <p:nvPr/>
        </p:nvCxnSpPr>
        <p:spPr>
          <a:xfrm flipH="1">
            <a:off x="2012760" y="5068440"/>
            <a:ext cx="2160" cy="28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6258240" y="37926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43600" y="5703840"/>
            <a:ext cx="19224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6" idx="2"/>
            <a:endCxn id="892" idx="3"/>
          </p:cNvCxnSpPr>
          <p:nvPr/>
        </p:nvCxnSpPr>
        <p:spPr>
          <a:xfrm flipH="1">
            <a:off x="3729960" y="5797080"/>
            <a:ext cx="21992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8" name=""/>
          <p:cNvSpPr/>
          <p:nvPr/>
        </p:nvSpPr>
        <p:spPr>
          <a:xfrm>
            <a:off x="3906000" y="44514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rnal_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26360" y="5113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149880" y="5353200"/>
            <a:ext cx="2519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5" idx="2"/>
            <a:endCxn id="899" idx="0"/>
          </p:cNvCxnSpPr>
          <p:nvPr/>
        </p:nvCxnSpPr>
        <p:spPr>
          <a:xfrm flipH="1" rot="16200000">
            <a:off x="6993000" y="4657320"/>
            <a:ext cx="853200" cy="2160"/>
          </a:xfrm>
          <a:prstGeom prst="bentConnector3">
            <a:avLst>
              <a:gd name="adj1" fmla="val 5082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89" idx="3"/>
            <a:endCxn id="890" idx="0"/>
          </p:cNvCxnSpPr>
          <p:nvPr/>
        </p:nvCxnSpPr>
        <p:spPr>
          <a:xfrm>
            <a:off x="3320640" y="4841640"/>
            <a:ext cx="3297960" cy="268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4035960" y="5445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_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968480" y="3780000"/>
            <a:ext cx="2081160" cy="399960"/>
            <a:chOff x="1968480" y="3780000"/>
            <a:chExt cx="2081160" cy="399960"/>
          </a:xfrm>
        </p:grpSpPr>
        <p:sp>
          <p:nvSpPr>
            <p:cNvPr id="905" name=""/>
            <p:cNvSpPr/>
            <p:nvPr/>
          </p:nvSpPr>
          <p:spPr>
            <a:xfrm>
              <a:off x="1968480" y="381168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857760" y="39070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065320" y="3780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>
            <a:stCxn id="895" idx="1"/>
            <a:endCxn id="906" idx="6"/>
          </p:cNvCxnSpPr>
          <p:nvPr/>
        </p:nvCxnSpPr>
        <p:spPr>
          <a:xfrm flipH="1" flipV="1">
            <a:off x="4063320" y="3999960"/>
            <a:ext cx="21675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4123800" y="36432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8120" y="23464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4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2600" y="1530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5" idx="0"/>
            <a:endCxn id="911" idx="4"/>
          </p:cNvCxnSpPr>
          <p:nvPr/>
        </p:nvCxnSpPr>
        <p:spPr>
          <a:xfrm flipH="1" flipV="1" rot="5400000">
            <a:off x="3202560" y="2659320"/>
            <a:ext cx="848520" cy="1427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4" name=""/>
          <p:cNvGrpSpPr/>
          <p:nvPr/>
        </p:nvGrpSpPr>
        <p:grpSpPr>
          <a:xfrm>
            <a:off x="7048440" y="2309760"/>
            <a:ext cx="690480" cy="631800"/>
            <a:chOff x="7048440" y="2309760"/>
            <a:chExt cx="690480" cy="631800"/>
          </a:xfrm>
        </p:grpSpPr>
        <p:sp>
          <p:nvSpPr>
            <p:cNvPr id="915" name=""/>
            <p:cNvSpPr/>
            <p:nvPr/>
          </p:nvSpPr>
          <p:spPr>
            <a:xfrm>
              <a:off x="7048440" y="23274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2754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57880" y="2309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4"/>
            <a:endCxn id="895" idx="0"/>
          </p:cNvCxnSpPr>
          <p:nvPr/>
        </p:nvCxnSpPr>
        <p:spPr>
          <a:xfrm flipH="1">
            <a:off x="7418160" y="2955960"/>
            <a:ext cx="360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9" name=""/>
          <p:cNvGrpSpPr/>
          <p:nvPr/>
        </p:nvGrpSpPr>
        <p:grpSpPr>
          <a:xfrm>
            <a:off x="6632280" y="1224000"/>
            <a:ext cx="1511280" cy="620640"/>
            <a:chOff x="6632280" y="1224000"/>
            <a:chExt cx="1511280" cy="620640"/>
          </a:xfrm>
        </p:grpSpPr>
        <p:sp>
          <p:nvSpPr>
            <p:cNvPr id="920" name=""/>
            <p:cNvSpPr/>
            <p:nvPr/>
          </p:nvSpPr>
          <p:spPr>
            <a:xfrm>
              <a:off x="7335720" y="156384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32280" y="1224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94680" y="1657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3" name=""/>
          <p:cNvCxnSpPr>
            <a:stCxn id="922" idx="4"/>
            <a:endCxn id="915" idx="0"/>
          </p:cNvCxnSpPr>
          <p:nvPr/>
        </p:nvCxnSpPr>
        <p:spPr>
          <a:xfrm flipH="1" rot="16200000">
            <a:off x="7163280" y="2082600"/>
            <a:ext cx="454680" cy="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5634360" y="30304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762720" y="1209600"/>
            <a:ext cx="1664640" cy="398880"/>
            <a:chOff x="3762720" y="1209600"/>
            <a:chExt cx="1664640" cy="398880"/>
          </a:xfrm>
        </p:grpSpPr>
        <p:sp>
          <p:nvSpPr>
            <p:cNvPr id="926" name=""/>
            <p:cNvSpPr/>
            <p:nvPr/>
          </p:nvSpPr>
          <p:spPr>
            <a:xfrm>
              <a:off x="5240160" y="1327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62720" y="12096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1" idx="1"/>
            <a:endCxn id="926" idx="6"/>
          </p:cNvCxnSpPr>
          <p:nvPr/>
        </p:nvCxnSpPr>
        <p:spPr>
          <a:xfrm rot="10800000">
            <a:off x="5456160" y="1420200"/>
            <a:ext cx="1148040" cy="16560"/>
          </a:xfrm>
          <a:prstGeom prst="bentConnector3">
            <a:avLst>
              <a:gd name="adj1" fmla="val 5062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9" name=""/>
          <p:cNvGrpSpPr/>
          <p:nvPr/>
        </p:nvGrpSpPr>
        <p:grpSpPr>
          <a:xfrm>
            <a:off x="713160" y="1273320"/>
            <a:ext cx="918360" cy="550800"/>
            <a:chOff x="713160" y="1273320"/>
            <a:chExt cx="918360" cy="550800"/>
          </a:xfrm>
        </p:grpSpPr>
        <p:sp>
          <p:nvSpPr>
            <p:cNvPr id="930" name=""/>
            <p:cNvSpPr/>
            <p:nvPr/>
          </p:nvSpPr>
          <p:spPr>
            <a:xfrm>
              <a:off x="713160" y="1273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87160" y="12733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85760" y="167184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3" name=""/>
          <p:cNvCxnSpPr>
            <a:stCxn id="932" idx="4"/>
            <a:endCxn id="910" idx="0"/>
          </p:cNvCxnSpPr>
          <p:nvPr/>
        </p:nvCxnSpPr>
        <p:spPr>
          <a:xfrm>
            <a:off x="1161720" y="1838160"/>
            <a:ext cx="3960" cy="49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4" name=""/>
          <p:cNvSpPr/>
          <p:nvPr/>
        </p:nvSpPr>
        <p:spPr>
          <a:xfrm>
            <a:off x="2983320" y="2346480"/>
            <a:ext cx="27136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5" name=""/>
          <p:cNvCxnSpPr>
            <a:stCxn id="934" idx="1"/>
            <a:endCxn id="936" idx="6"/>
          </p:cNvCxnSpPr>
          <p:nvPr/>
        </p:nvCxnSpPr>
        <p:spPr>
          <a:xfrm flipV="1" rot="10800000">
            <a:off x="2261520" y="2543760"/>
            <a:ext cx="687960" cy="3960"/>
          </a:xfrm>
          <a:prstGeom prst="bentConnector3">
            <a:avLst>
              <a:gd name="adj1" fmla="val 4984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2095560" y="2471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8960" y="1062000"/>
            <a:ext cx="855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CIRCLE_HOLLOW (’CHS273x10', 1, ’Circular Hollow Section beam to EN10210, 'Plastic', $, #202, #20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136.5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10.0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06320" y="3687840"/>
            <a:ext cx="6993000" cy="261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certain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63960" y="228924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51600" y="1722600"/>
            <a:ext cx="0" cy="22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3560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70720" y="1001880"/>
            <a:ext cx="4776480" cy="784080"/>
            <a:chOff x="3870720" y="1001880"/>
            <a:chExt cx="4776480" cy="784080"/>
          </a:xfrm>
        </p:grpSpPr>
        <p:sp>
          <p:nvSpPr>
            <p:cNvPr id="945" name=""/>
            <p:cNvSpPr/>
            <p:nvPr/>
          </p:nvSpPr>
          <p:spPr>
            <a:xfrm>
              <a:off x="3870720" y="130500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654960" y="136224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94560" y="1300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729480" y="136224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652800" y="1710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94560" y="163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40200" y="100188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311040" y="2289240"/>
            <a:ext cx="23418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6052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842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442880" y="1951200"/>
            <a:ext cx="602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375200" y="15494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133640" y="3597120"/>
            <a:ext cx="690480" cy="593640"/>
            <a:chOff x="1133640" y="3597120"/>
            <a:chExt cx="690480" cy="593640"/>
          </a:xfrm>
        </p:grpSpPr>
        <p:sp>
          <p:nvSpPr>
            <p:cNvPr id="958" name=""/>
            <p:cNvSpPr/>
            <p:nvPr/>
          </p:nvSpPr>
          <p:spPr>
            <a:xfrm>
              <a:off x="1133640" y="38196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4200" y="3597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243080" y="3801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59" idx="0"/>
          </p:cNvCxnSpPr>
          <p:nvPr/>
        </p:nvCxnSpPr>
        <p:spPr>
          <a:xfrm flipH="1">
            <a:off x="1477440" y="3033720"/>
            <a:ext cx="576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62" name=""/>
          <p:cNvGrpSpPr/>
          <p:nvPr/>
        </p:nvGrpSpPr>
        <p:grpSpPr>
          <a:xfrm>
            <a:off x="733320" y="4502160"/>
            <a:ext cx="1511280" cy="628920"/>
            <a:chOff x="733320" y="4502160"/>
            <a:chExt cx="1511280" cy="628920"/>
          </a:xfrm>
        </p:grpSpPr>
        <p:sp>
          <p:nvSpPr>
            <p:cNvPr id="963" name=""/>
            <p:cNvSpPr/>
            <p:nvPr/>
          </p:nvSpPr>
          <p:spPr>
            <a:xfrm>
              <a:off x="733320" y="47322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88880" y="4502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5" name=""/>
          <p:cNvCxnSpPr>
            <a:stCxn id="958" idx="2"/>
            <a:endCxn id="964" idx="0"/>
          </p:cNvCxnSpPr>
          <p:nvPr/>
        </p:nvCxnSpPr>
        <p:spPr>
          <a:xfrm flipH="1" rot="16200000">
            <a:off x="1351080" y="4356720"/>
            <a:ext cx="259200" cy="3960"/>
          </a:xfrm>
          <a:prstGeom prst="bentConnector3">
            <a:avLst>
              <a:gd name="adj1" fmla="val 4965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66" name=""/>
          <p:cNvSpPr/>
          <p:nvPr/>
        </p:nvSpPr>
        <p:spPr>
          <a:xfrm>
            <a:off x="814320" y="32018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481840" y="5732640"/>
            <a:ext cx="1101240" cy="390240"/>
            <a:chOff x="2481840" y="5732640"/>
            <a:chExt cx="1101240" cy="390240"/>
          </a:xfrm>
        </p:grpSpPr>
        <p:sp>
          <p:nvSpPr>
            <p:cNvPr id="968" name=""/>
            <p:cNvSpPr/>
            <p:nvPr/>
          </p:nvSpPr>
          <p:spPr>
            <a:xfrm>
              <a:off x="2481840" y="5732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30440" y="5864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87880" y="57326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1" name=""/>
          <p:cNvCxnSpPr>
            <a:stCxn id="972" idx="2"/>
            <a:endCxn id="973" idx="0"/>
          </p:cNvCxnSpPr>
          <p:nvPr/>
        </p:nvCxnSpPr>
        <p:spPr>
          <a:xfrm>
            <a:off x="7454880" y="3033720"/>
            <a:ext cx="21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765720" y="55976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05080" y="5367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63" idx="2"/>
            <a:endCxn id="975" idx="0"/>
          </p:cNvCxnSpPr>
          <p:nvPr/>
        </p:nvCxnSpPr>
        <p:spPr>
          <a:xfrm flipH="1" rot="16200000">
            <a:off x="1409760" y="5249880"/>
            <a:ext cx="167040" cy="10440"/>
          </a:xfrm>
          <a:prstGeom prst="bentConnector3">
            <a:avLst>
              <a:gd name="adj1" fmla="val 5421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6283440" y="228924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certainty_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372440" y="210996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35560" y="192420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020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50320" y="3706920"/>
            <a:ext cx="3707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y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62720" y="35053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96320" y="3132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certainty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01080" y="47005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61280" y="4148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3" idx="4"/>
            <a:endCxn id="982" idx="0"/>
          </p:cNvCxnSpPr>
          <p:nvPr/>
        </p:nvCxnSpPr>
        <p:spPr>
          <a:xfrm flipH="1" rot="16200000">
            <a:off x="7296840" y="4521600"/>
            <a:ext cx="322920" cy="7200"/>
          </a:xfrm>
          <a:prstGeom prst="bentConnector3">
            <a:avLst>
              <a:gd name="adj1" fmla="val 4776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6458040" y="5541840"/>
            <a:ext cx="1888920" cy="576360"/>
            <a:chOff x="6458040" y="5541840"/>
            <a:chExt cx="1888920" cy="576360"/>
          </a:xfrm>
        </p:grpSpPr>
        <p:sp>
          <p:nvSpPr>
            <p:cNvPr id="986" name=""/>
            <p:cNvSpPr/>
            <p:nvPr/>
          </p:nvSpPr>
          <p:spPr>
            <a:xfrm>
              <a:off x="6458040" y="5749920"/>
              <a:ext cx="188892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65960" y="5541840"/>
              <a:ext cx="1922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568920" y="5717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5497200" y="52196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056840" y="5745240"/>
            <a:ext cx="1973880" cy="368280"/>
            <a:chOff x="4056840" y="5745240"/>
            <a:chExt cx="1973880" cy="368280"/>
          </a:xfrm>
        </p:grpSpPr>
        <p:sp>
          <p:nvSpPr>
            <p:cNvPr id="991" name=""/>
            <p:cNvSpPr/>
            <p:nvPr/>
          </p:nvSpPr>
          <p:spPr>
            <a:xfrm>
              <a:off x="4056840" y="574524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78440" y="5861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3" name=""/>
          <p:cNvCxnSpPr>
            <a:stCxn id="986" idx="1"/>
            <a:endCxn id="992" idx="6"/>
          </p:cNvCxnSpPr>
          <p:nvPr/>
        </p:nvCxnSpPr>
        <p:spPr>
          <a:xfrm rot="10800000">
            <a:off x="6044400" y="5936400"/>
            <a:ext cx="399240" cy="11880"/>
          </a:xfrm>
          <a:prstGeom prst="bentConnector3">
            <a:avLst>
              <a:gd name="adj1" fmla="val 4972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2" idx="2"/>
            <a:endCxn id="987" idx="0"/>
          </p:cNvCxnSpPr>
          <p:nvPr/>
        </p:nvCxnSpPr>
        <p:spPr>
          <a:xfrm>
            <a:off x="7461360" y="5140440"/>
            <a:ext cx="216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4194720" y="43848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69" idx="6"/>
            <a:endCxn id="991" idx="1"/>
          </p:cNvCxnSpPr>
          <p:nvPr/>
        </p:nvCxnSpPr>
        <p:spPr>
          <a:xfrm>
            <a:off x="3596760" y="5940000"/>
            <a:ext cx="42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"/>
          <p:cNvSpPr/>
          <p:nvPr/>
        </p:nvSpPr>
        <p:spPr>
          <a:xfrm>
            <a:off x="1835280" y="3943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2" idx="1"/>
            <a:endCxn id="997" idx="6"/>
          </p:cNvCxnSpPr>
          <p:nvPr/>
        </p:nvCxnSpPr>
        <p:spPr>
          <a:xfrm rot="10800000">
            <a:off x="2036160" y="4036320"/>
            <a:ext cx="4237560" cy="876960"/>
          </a:xfrm>
          <a:prstGeom prst="bentConnector3">
            <a:avLst>
              <a:gd name="adj1" fmla="val 49974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03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ogical Product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LPM defines a logical structure for data in terms of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ies (or thing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(or characteristic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relationships between entitie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26320" y="2335320"/>
            <a:ext cx="2641680" cy="2856240"/>
            <a:chOff x="5926320" y="2335320"/>
            <a:chExt cx="2641680" cy="2856240"/>
          </a:xfrm>
        </p:grpSpPr>
        <p:sp>
          <p:nvSpPr>
            <p:cNvPr id="125" name=""/>
            <p:cNvSpPr/>
            <p:nvPr/>
          </p:nvSpPr>
          <p:spPr>
            <a:xfrm>
              <a:off x="6645240" y="233532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26320" y="396396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5" idx="2"/>
              <a:endCxn id="128" idx="0"/>
            </p:cNvCxnSpPr>
            <p:nvPr/>
          </p:nvCxnSpPr>
          <p:spPr>
            <a:xfrm>
              <a:off x="7606800" y="3079440"/>
              <a:ext cx="2520" cy="1556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129" name=""/>
            <p:cNvGrpSpPr/>
            <p:nvPr/>
          </p:nvGrpSpPr>
          <p:grpSpPr>
            <a:xfrm>
              <a:off x="7214760" y="4649760"/>
              <a:ext cx="805680" cy="541800"/>
              <a:chOff x="7214760" y="4649760"/>
              <a:chExt cx="805680" cy="54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533000" y="4649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14760" y="479268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formal definition of how engineering information should be systematically structured for data exchan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nded to cover all types of engineering information associated with a steel fr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key component of the C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short form’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139" name="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9" idx="3"/>
              <a:endCxn id="142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12:33:41Z</cp:lastPrinted>
  <dcterms:modified xsi:type="dcterms:W3CDTF">1999-06-19T15:54:31Z</dcterms:modified>
  <cp:revision>105</cp:revision>
  <dc:subject/>
  <dc:title>No Slide Title</dc:title>
</cp:coreProperties>
</file>